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205F-3000-4A6C-BD59-E6CBF95B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140-BCBB-4C43-A153-74F571E5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992-EE0B-4953-883E-6F2A2AEC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4BE3-1279-4AB5-A731-C36646CB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B302-A7F4-4072-8561-A6AB1A6D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8F1-0540-4672-AF06-47F1B9F6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BCDE-9D48-40C0-B15B-0CC7EA2D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66E-67FD-409A-8348-88B2F6D5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A439-17E7-43BB-BE90-D0A07268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9D1-AB67-4977-9009-17E88A8C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CD9-8D7E-4013-955D-E7400966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E8D2-A9E4-4DBD-9777-0F59AA34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6F70-7275-4EA3-90E3-A2824376D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es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 logiciel interactif de création de figures géométriques animées a été utilisé pour définir chacune des transform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lèv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voient ainsi l’influence de la modification de certains paramètres pour mieux comprendre la notion de trans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s figures seront cependant figées sur les diapositives ci-dess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85960" y="1268280"/>
            <a:ext cx="5572080" cy="378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31640" y="333360"/>
            <a:ext cx="289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MOTHÉ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9960" y="5229000"/>
            <a:ext cx="576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port d'homothétie:    k    =    2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 k est plus grand que 1, c'est un agrandis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 k est plus petit que 1, c'est un rapetis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71600" y="620640"/>
            <a:ext cx="6400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YMÉTRIE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00200" y="2062080"/>
            <a:ext cx="59436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 est le rapport ent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ymétrie centrale et l’homothéti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YMÉTRIE AX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1924200"/>
            <a:ext cx="472464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28960" y="1357200"/>
            <a:ext cx="5086080" cy="4143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87640" y="476280"/>
            <a:ext cx="30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2552760"/>
            <a:ext cx="4352760" cy="2531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92720" y="2852640"/>
            <a:ext cx="194328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01:52:52Z</dcterms:created>
  <dc:creator> </dc:creator>
  <dc:description/>
  <dc:language>en-US</dc:language>
  <cp:lastModifiedBy> </cp:lastModifiedBy>
  <dcterms:modified xsi:type="dcterms:W3CDTF">2008-03-08T02:29:59Z</dcterms:modified>
  <cp:revision>5</cp:revision>
  <dc:subject/>
  <dc:title>Diapositive 1</dc:title>
</cp:coreProperties>
</file>