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94A-A199-433D-B45E-D02E902E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E79-F2D2-4601-9199-B7140876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584-0AF5-4674-8EDB-A2059416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32B-2287-477A-B0E7-ED9CE15C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7CC-EF49-4F58-928A-1515F3D0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A2A-137A-4EA8-8899-E926267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D46-D2E2-4858-91A0-E0CA5438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FA5-5619-43CA-81C6-AD7DD52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587-9D31-4029-83FE-342E9ED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882-149B-485D-B823-C771EB7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FAE-3D5F-4156-A866-A85A990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BC0-BBE3-414D-BE41-AEE17C9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02B-5F09-4C7B-91E8-C0386157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erso.wanadoo.fr/therese.eveilleau/pages/truc_mat/textes/corde.htm" TargetMode="External"/><Relationship Id="rId2" Type="http://schemas.openxmlformats.org/officeDocument/2006/relationships/hyperlink" Target="http://perso.wanadoo.fr/therese.eveilleau/pages/truc_mat/textes/corde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igines connues de la géomé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Les premières recherches connues de la géométrie sont dues aux Egyptiens et aux Babylonniens (2000 ans avant notre è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714240"/>
            <a:ext cx="748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nex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71880" y="471600"/>
            <a:ext cx="607212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nex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34920"/>
            <a:ext cx="596736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nex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0560" y="512640"/>
            <a:ext cx="6913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c, il y a plus de 4000 ans que l’homme commença à utiliser la géométri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Pyramides de Gizeh"/>
          <p:cNvPicPr/>
          <p:nvPr/>
        </p:nvPicPr>
        <p:blipFill>
          <a:blip r:embed="rId1"/>
          <a:stretch/>
        </p:blipFill>
        <p:spPr>
          <a:xfrm>
            <a:off x="1042920" y="2060640"/>
            <a:ext cx="3745080" cy="2840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03640" y="2492280"/>
            <a:ext cx="3313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ndations périodiques du N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racé d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 arpenteu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229360"/>
            <a:ext cx="70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nformations proviennent d'un papyrus qui a été daté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700 à 200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notre è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Pythagore de Samos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Grec  (-569 ; -4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472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théorème de Pythagor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bien connu, n'est en fait pas une découverte de </a:t>
            </a: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Pythagor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, il était déjà connu sur des cas particuliers par les chinois et les babyloniens 1000 ans avant lu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Columbia Institut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conserve la célèbre tablette d’argile qui présente ce théorè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158840"/>
            <a:ext cx="7201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Egyptiens connaissaient aussi le théorème. Ils utilisaient l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rde à 13 noeud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régulièrement répart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03280" y="3357720"/>
            <a:ext cx="55609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424944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scription du scénari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8520" y="2409840"/>
            <a:ext cx="18669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3:37:09Z</dcterms:created>
  <dc:creator> </dc:creator>
  <dc:description/>
  <dc:language>en-US</dc:language>
  <cp:lastModifiedBy> </cp:lastModifiedBy>
  <dcterms:modified xsi:type="dcterms:W3CDTF">2008-02-08T00:55:49Z</dcterms:modified>
  <cp:revision>4</cp:revision>
  <dc:subject/>
  <dc:title>Origines connues de la géométrie</dc:title>
</cp:coreProperties>
</file>