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979-163F-4F85-89CE-5675CF78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BDA-1267-4ADA-A59D-66868DC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20D-F218-4445-ADA9-10D8C3CF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28C-CB05-44F8-A848-29F26C26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151-92F2-44B6-AD4F-D71B95EE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3E6-E83A-4EEA-966F-03B0BF10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82F-EADB-4FB5-86B6-AFAD3DA2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BED-0785-49A8-B689-22F9656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A41-0487-4742-B05D-6FAD753E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0DC-2C29-4111-BAC3-CE6671E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31D-98E3-4A34-9B0C-B830838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DCA-5CA6-480E-BE09-03957F21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90B-4421-4A6E-9B57-0A141ABBF4E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83628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ifférentes figures sont réalisées à l’aide d’un logiciel de géométrie qui permet l’animation. Ces diapositives permettent de résumer la matière vue, mais sans l’ani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vantages de celle-ci seront cependant exploités lors de la période de c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3342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81440" y="2492280"/>
            <a:ext cx="3381120" cy="2230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6101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33640" y="2629080"/>
            <a:ext cx="6876720" cy="24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68360" y="907920"/>
            <a:ext cx="41720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s formés par des droites parallèle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es internes, correspondants, opposés par le somme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4095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33:38Z</dcterms:created>
  <dc:creator> </dc:creator>
  <dc:description/>
  <dc:language>en-US</dc:language>
  <cp:lastModifiedBy> </cp:lastModifiedBy>
  <dcterms:modified xsi:type="dcterms:W3CDTF">2008-03-26T01:39:12Z</dcterms:modified>
  <cp:revision>7</cp:revision>
  <dc:subject/>
  <dc:title>Diapositive 1</dc:title>
</cp:coreProperties>
</file>