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8093E-9635-4BD5-A077-708404C69997}" type="slidenum"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ésentation des expérimentateurs (animateurs) et de l’équipe de ma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o: trouver la plus grande forme qui rentre dan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cl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éinvestissement dans situations 5 et 6: fait en classe, au tableau, de manière magistr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cl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ant de commencer, on aimerait vous posez la question suivante: (cl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in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herche des SA existant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rouve, entre autre, Aménageons, qui semble assez complet (On s’aperçoit après l’expérimentation et discussion de AF avec ???? qu’il est probablement trop long et pas adapté au niveau de pré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ançois analyse le contenu par rapport avec le programme P104-4 et détermine les savoirs prescrits manqua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ébut de l’expérimentation «Aménageons»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≈ mi-fév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ux équipes d’enseignants écrivent chacun un scénario afin de combler ce qui manque et une enseignante travaille sur la boite à outi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lques minutes pour laisser les gens s’exprimer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clic pour chaque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2 cl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4B09-47D6-4771-BD1B-254E0A7B2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8E5A-9E52-41B6-A9D2-757FE30F4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AB8C-B4C9-4A7A-B1EE-7A06C4773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CADE-48C1-4E33-AC68-99E20A8B3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8BDB4-4B37-487F-8256-47BF41BF4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95D28-7C3E-4D2B-BA33-3A1BF9DCC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7D0A5-64AD-4746-B97E-10CBBE1FA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8E223-C74B-48E5-963B-CA4D17AAF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75CDC-C0B2-4B29-9E63-B1071509A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F2A72-D2F3-4BEE-83C9-773D0CC33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59743-C7B0-480F-A54D-CFD9CA6DD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FC27-1804-4262-B91C-2936F89AC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10502-2079-4DC9-B96D-69D0A52B6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0BADE-89DA-499C-8DB7-9046ABE0D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77933-22BC-43F3-8158-BD82C19F3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88EFE-DACD-4A25-8F35-9AB9E4E3C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AFAF5-0BE6-45B0-84F7-6DA13881D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B282-009D-4619-8754-209D6518E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8E2D-0794-48FC-8830-D91F3C11F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428A-908B-44E1-A7B1-214B5F795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13D3-57B9-481A-B6CE-9ED783D26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80FC-F690-4C4C-AE5B-8D6C210AE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CD82-4AA8-4E6A-8802-A8F1051E2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D7EE-1604-4D29-B5A4-E76074C11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1C748-6EC0-4DA4-B822-0974D985209E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12F33-2757-4741-93CD-583F084A22B2}" type="slidenum">
              <a:rPr b="0" lang="fr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761080" cy="47181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761080" cy="47181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0" y="4508280"/>
            <a:ext cx="35258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ath P104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716360" y="3068640"/>
            <a:ext cx="344808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Pendons la crémaillè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92360" y="616572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çois Prévost-Lagacé et Natalie Savoie, CST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3320" cy="15588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63640" y="404280"/>
            <a:ext cx="677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Contenu du cou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2: Ébauchons un pla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ix du nouveau lo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sin du plan du nouveau lo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 du nombre de tuiles ou de planches pour refaire les planc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éinvestissement: agrandir le plan d’un jeu de hoc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1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3000"/>
                            </p:stCondLst>
                            <p:childTnLst>
                              <p:par>
                                <p:cTn id="1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1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3320" cy="15588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63640" y="404280"/>
            <a:ext cx="677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Contenu du cou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3: Meublons le logemen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cation des meubles manquants pour le nouveau lo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ption des nouveaux meu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érification de l’e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éinvestissement: Création d’un lo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600"/>
                            </p:stCondLst>
                            <p:childTnLst>
                              <p:par>
                                <p:cTn id="17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750"/>
                            </p:stCondLst>
                            <p:childTnLst>
                              <p:par>
                                <p:cTn id="18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6650"/>
                            </p:stCondLst>
                            <p:childTnLst>
                              <p:par>
                                <p:cTn id="19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8200"/>
                            </p:stCondLst>
                            <p:childTnLst>
                              <p:par>
                                <p:cTn id="19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3320" cy="15588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63640" y="404280"/>
            <a:ext cx="677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Contenu du cou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4: Peinturons le logemen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ix des coul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 de la surface totale à peintu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 de la longueur de mou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étermination de la quantité de peinture nécess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éinvestissement: Construction d’une table de confé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2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500"/>
                            </p:stCondLst>
                            <p:childTnLst>
                              <p:par>
                                <p:cTn id="23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3500"/>
                            </p:stCondLst>
                            <p:childTnLst>
                              <p:par>
                                <p:cTn id="24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4500"/>
                            </p:stCondLst>
                            <p:childTnLst>
                              <p:par>
                                <p:cTn id="25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3320" cy="15588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763640" y="404280"/>
            <a:ext cx="677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Contenu du cou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ituations pour compléter le c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5: C’est le temps de décor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uction de différentes figures pla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eption d’une mosaï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étermination du coût de la mosaï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500"/>
                            </p:stCondLst>
                            <p:childTnLst>
                              <p:par>
                                <p:cTn id="2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3320" cy="15588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63640" y="404280"/>
            <a:ext cx="677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Contenu du cou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6: Pendre la crémaillè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 du nombre de pizzas nécessaires à la fê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cul de diverses quantités de liquide nécessaires pour faire des cocktails (en millilitres et en frac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8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8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8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8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8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8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8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2000"/>
                            </p:stCondLst>
                            <p:childTnLst>
                              <p:par>
                                <p:cTn id="30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3320" cy="15588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63640" y="404280"/>
            <a:ext cx="677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fficultés rencontré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us n’avions pas expérimenté « Aménageons ! » entre enseign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que de certains supports nécessaires aux apprentiss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veau d’apprentissage un peu trop éle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ormations du système impérial au système internat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rtaines mesures sont inadéqu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écessité constante d’adapter la boîte à out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4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4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4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4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36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4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4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4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4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4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4000"/>
                            </p:stCondLst>
                            <p:childTnLst>
                              <p:par>
                                <p:cTn id="35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4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4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0"/>
                            </p:stCondLst>
                            <p:childTnLst>
                              <p:par>
                                <p:cTn id="360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4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4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3320" cy="15588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63640" y="404280"/>
            <a:ext cx="677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Points positif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ux groupes avec deux enseignants: partage des élèves en expéri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raide entre les élè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3320" cy="15588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63640" y="404280"/>
            <a:ext cx="677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L’avenir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Mise à niveau d’« Aménageons!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Simpl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Morcel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À la fin de chaque SA, préciser où trouver la théorie et intégrer des exercices obligato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Disposer le tout sur Moodle afin de le part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2000"/>
                            </p:stCondLst>
                            <p:childTnLst>
                              <p:par>
                                <p:cTn id="40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3320" cy="15588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63640" y="404280"/>
            <a:ext cx="677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Conclus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s? Commentai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 retenez-vous de l’ateli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’après vous, est-ce réalisable dans votre cent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3320" cy="15588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63640" y="404280"/>
            <a:ext cx="677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360" y="306828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ci et bonne fin de journé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3320" cy="15588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63640" y="404280"/>
            <a:ext cx="677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Pendons la crémaillè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ésentation du contex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éri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ésentation du contenu du c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és rencontré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ints forts de l’expéri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’aveni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3320" cy="15588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63640" y="404280"/>
            <a:ext cx="677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Pendons la crémaillè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321264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quelle manière vous êtes-vous préparé à l’implantation de la FB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3320" cy="15588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63640" y="404280"/>
            <a:ext cx="677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ésentation du contex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ésumé des sigles de la FB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ur des SA existantes sur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ix du présecondaire à cause du manque de matéri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ix de la situation « Aménageons! » de l’Estrie qui couvre 60 he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étion de la situation pour faire un cours complet: MAT P104-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000"/>
                            </p:stCondLst>
                            <p:childTnLst>
                              <p:par>
                                <p:cTn id="4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6000"/>
                            </p:stCondLst>
                            <p:childTnLst>
                              <p:par>
                                <p:cTn id="5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8000"/>
                            </p:stCondLst>
                            <p:childTnLst>
                              <p:par>
                                <p:cTn id="5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3320" cy="15588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63640" y="404280"/>
            <a:ext cx="677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ésentation du contex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se de la SA « Aménageons ! » pour déterminer les savoirs essentiels couverts vs manqu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ébut immédiat de l’expérimentation par nos élè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3320" cy="15588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63640" y="404280"/>
            <a:ext cx="677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ésentation du contex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ultanément, les autres enseignants cré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e boîte à outils pour la SA « Aménageons!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ux SA complémentaires pour couvrir l’ensemble des savoirs essentiels du cours ainsi que leur boîte à out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7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3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3320" cy="15588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404280"/>
            <a:ext cx="677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péri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À fai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re l’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 5.1: Les cercles sont à faire, les autres formes à découper, n’estimez pas et ne calculez pas les a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 5.2: Pas besoin de color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re le reste de la 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7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1" dur="2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4000"/>
                            </p:stCondLst>
                            <p:childTnLst>
                              <p:par>
                                <p:cTn id="9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5" dur="20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6000"/>
                            </p:stCondLst>
                            <p:childTnLst>
                              <p:par>
                                <p:cTn id="9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9" dur="20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8000"/>
                            </p:stCondLst>
                            <p:childTnLst>
                              <p:par>
                                <p:cTn id="10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3" dur="20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3320" cy="1558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63640" y="404280"/>
            <a:ext cx="677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to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Qu’avez-vous remarqué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Il est très important de faire l’expérimentation entre enseignants avant d’utiliser une SA en clas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3320" cy="15588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63640" y="404280"/>
            <a:ext cx="677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Contenu du cou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énageons! : 4 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1: Situation actue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aison de différentes tailles de log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cation, description et représentation des meubles que l’élève possè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éinvestissement: décrire des monu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1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5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9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6T15:33:41Z</dcterms:created>
  <dc:creator>AFVandermaren</dc:creator>
  <dc:description/>
  <dc:language>en-US</dc:language>
  <cp:lastModifiedBy>AFVanderMaren</cp:lastModifiedBy>
  <dcterms:modified xsi:type="dcterms:W3CDTF">2009-05-20T15:44:39Z</dcterms:modified>
  <cp:revision>11</cp:revision>
  <dc:subject/>
  <dc:title>Math P104-2</dc:title>
</cp:coreProperties>
</file>