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2CFC-31CD-460B-B396-5BE636257C6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BA5-DAB1-42B8-AD28-4B445941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507-4E7A-4ECC-B01E-6EF69B3B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7C2-AF91-46CD-9906-71DBF91F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EF1-2D2E-46F8-8394-4D4B5AF7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F10F1-37F3-4800-9B97-AC2E251D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BA506-93F2-4607-8CBC-4CF3BB07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B2BB3-BEE5-40E6-996F-05005941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0328F-DA12-4A89-8807-8E3D1C37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D6925-9FFD-4DC7-BE53-36315293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F75F4-1897-4252-8834-5E5DB013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EA85E-9ACC-4027-9B8E-966D3E3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FBC-987A-4CFF-ADEB-2A67BBF3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E0355-4BDF-43DE-88A0-2D916F2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1FBC5-1E2D-4689-86B4-F2AB571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7BA2-ADA5-4CA9-8FF7-C45E64B4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E2CCD-4B3F-4233-83D4-0D79DCFC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C7168-86CB-4C56-B5D4-00D6E2F0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BD2-A3C1-487F-A53B-7230D8BC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6EB-C2C6-4A00-B810-B536EA6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F74-C33C-4868-B073-1D1CC25B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7A9F-4BD9-4E20-AC1B-BA34C797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7C3-506C-43AD-BC56-0A85C1E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4F2-29FE-4DBA-8ED5-1FFE840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BC6-11EB-4363-936C-8F36877B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281B-8D66-4F9D-99E2-97154712BEB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1FB0-D1B8-49CB-B8CA-8059F5F9494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xpedia.ca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HOLIDAY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omic Sans MS"/>
              </a:rPr>
              <a:t>Target group: FBC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Comic Sans MS"/>
              </a:rPr>
              <a:t>B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Comic Sans MS"/>
              </a:rPr>
              <a:t>Gale Johnso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Comic Sans MS"/>
              </a:rPr>
              <a:t>&amp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Comic Sans MS"/>
              </a:rPr>
              <a:t>Lisanne Roberso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omic Sans MS"/>
              </a:rPr>
              <a:t>Boo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Booking can be done on-line using </a:t>
            </a:r>
            <a:r>
              <a:rPr b="0" lang="en-CA" sz="32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www.expedia.ca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 or travel broch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omic Sans MS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Dest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Hotel: name,address etc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Departure date and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Return date and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Airport + code (YUL,FLL…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Air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Flight numb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Duration of fligh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Stopover??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Arrival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Transportation to hot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Star ra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Beachfro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mic Sans MS"/>
              </a:rPr>
              <a:t>Feel free to add or subtract any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mic Sans MS"/>
              </a:rPr>
              <a:t>Hour 5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Comic Sans MS"/>
              </a:rPr>
              <a:t>Question Worksho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Teacher shows question words and basic structure and helps the class assemble a list of 20 possible questions that could be asked the presen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Example: How much does your trip co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mic Sans MS"/>
              </a:rPr>
              <a:t>Hour 6 &amp; 7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Comic Sans MS"/>
              </a:rPr>
              <a:t>Presentation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Destination deta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What’s includ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Pictures (can print from Exped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What activities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Total pr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Class should ask questions for clarification and more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omic Sans MS"/>
              </a:rPr>
              <a:t>Require each student to ask 2 questions per presentation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Project learning is fun but can be unpredictable. Flexibility is a mu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Let enthusiasm guide you and your stud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O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Students will be able to talk about their own holidays and read about favorite holiday dest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Students will familiarize themselves with appropriate travel w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Students</a:t>
            </a: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 will also be able to design and book their own vac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Approximately 7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omic Sans MS"/>
              </a:rPr>
              <a:t>Hour 1</a:t>
            </a:r>
            <a:br>
              <a:rPr sz="3600"/>
            </a:br>
            <a:r>
              <a:rPr b="0" lang="en-CA" sz="3600" spc="-1" strike="noStrike">
                <a:solidFill>
                  <a:srgbClr val="ffffff"/>
                </a:solidFill>
                <a:latin typeface="Comic Sans MS"/>
              </a:rPr>
              <a:t>Warm up: Where in the world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Open class discussion. Talk about previ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holid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Who has travelle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Where did you g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Where would you like to g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Have you ever been on a plan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(Have students get into pairs and discuss the questions then share with cla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4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Go over travel vocabul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Vocabulary exercise handout (pair wor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omic Sans MS"/>
              </a:rPr>
              <a:t>Hour 2  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Comic Sans MS"/>
              </a:rPr>
              <a:t>Present the Proje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Explain the project to the stu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Imagine you are going on a vacation down South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Each student will plan and present a trip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Comic Sans MS"/>
              </a:rPr>
              <a:t>Crite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1 week vacation (7day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Down South (Caribbe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Double occupa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Unlimited budg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omic Sans MS"/>
              </a:rPr>
              <a:t>Selecting a dest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Allow your students the pleasure of disco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Choices can be made from the internet or by broch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Also consider using the travel section fr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mic Sans MS"/>
              </a:rPr>
              <a:t>The Gazet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CA" sz="3600" spc="-1" strike="noStrike">
                <a:solidFill>
                  <a:srgbClr val="ffffff"/>
                </a:solidFill>
                <a:latin typeface="Comic Sans MS"/>
              </a:rPr>
              <a:t>Hours  3 &amp; 4</a:t>
            </a:r>
            <a:br>
              <a:rPr sz="3600"/>
            </a:br>
            <a:r>
              <a:rPr b="0" lang="en-CA" sz="3600" spc="-1" strike="noStrike">
                <a:solidFill>
                  <a:srgbClr val="ffffff"/>
                </a:solidFill>
                <a:latin typeface="Comic Sans MS"/>
              </a:rPr>
              <a:t>Start Project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Teacher provides criteria checklist.  (Students must make sure that their destination has all the elements. If not they must select another destination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All destinations must be approved by the teacher, no two students can have the same hot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mic Sans MS"/>
              </a:rPr>
              <a:t>When approved student can then proceed to simulate the booking of their vac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omic Sans MS"/>
              </a:rPr>
              <a:t>T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Teacher could assign destinations to guarantee a var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You do not want everyone going to Cayo Coco!!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2:38:54Z</dcterms:created>
  <dc:creator>menayann</dc:creator>
  <dc:description/>
  <dc:language>en-US</dc:language>
  <cp:lastModifiedBy>csp</cp:lastModifiedBy>
  <dcterms:modified xsi:type="dcterms:W3CDTF">2010-04-15T20:34:30Z</dcterms:modified>
  <cp:revision>11</cp:revision>
  <dc:subject/>
  <dc:title>HOLIDAY</dc:title>
</cp:coreProperties>
</file>